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5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BB0C1-0ED1-4925-961F-94A73763168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5E7E8-8169-4CF4-B0A4-81E5433C3AF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65C2E-6AD2-4413-8627-37711ABEC9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CBB45-1D1C-4A07-ADBF-8FDACD63CBF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966CA-0724-4719-AE8B-43F0333D95D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ADBBE-E41C-4FC2-B5A9-AB44A98D2FD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95B51-279A-427F-97E8-58EB06BC27B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32663-C746-4AFE-A487-AADC5E6D08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A60CA-3561-4B41-B641-11D145D93F9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4C68-95F8-4CCB-8F12-9CFB8FDCB7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7624-55AB-4ED7-B636-138D84D5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9D6C-821F-43DB-93CD-93DFCEF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B806-075B-4FFE-9528-44870AD16F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D509-F495-4E5E-9F65-B994E253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4B04-8021-428B-B47C-E9E9CA65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3BD29-35A6-46FE-A21F-A797C5F0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A7E6-D2C7-488B-B02F-2AE3AB94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4C6F-3B58-462A-90E9-B50F2C1C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F2DA-C8BF-4ADA-BF48-2422B704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88B2-CA86-46F3-BC86-C42002D3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9AB5-80BC-41E8-BEED-EB9C400F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EE7CCE-B641-48EC-916A-84B803FB6C9B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S PARTES DE UNA FLOR TÍP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6240600" cy="5150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partes de una flor típ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22 CuadroTexto"/>
          <p:cNvSpPr/>
          <p:nvPr/>
        </p:nvSpPr>
        <p:spPr>
          <a:xfrm>
            <a:off x="3851280" y="765000"/>
            <a:ext cx="1512720" cy="3682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23 CuadroTexto"/>
          <p:cNvSpPr/>
          <p:nvPr/>
        </p:nvSpPr>
        <p:spPr>
          <a:xfrm>
            <a:off x="3708360" y="6021360"/>
            <a:ext cx="1511280" cy="3682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ál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25 Conector recto"/>
          <p:cNvSpPr/>
          <p:nvPr/>
        </p:nvSpPr>
        <p:spPr>
          <a:xfrm>
            <a:off x="3059280" y="4292640"/>
            <a:ext cx="0" cy="194472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43 Conector recto"/>
          <p:cNvSpPr/>
          <p:nvPr/>
        </p:nvSpPr>
        <p:spPr>
          <a:xfrm>
            <a:off x="5724360" y="4653000"/>
            <a:ext cx="0" cy="158436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67 Conector recto"/>
          <p:cNvSpPr/>
          <p:nvPr/>
        </p:nvSpPr>
        <p:spPr>
          <a:xfrm>
            <a:off x="3059280" y="6237360"/>
            <a:ext cx="649080" cy="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68 Conector recto"/>
          <p:cNvSpPr/>
          <p:nvPr/>
        </p:nvSpPr>
        <p:spPr>
          <a:xfrm>
            <a:off x="5219640" y="6237360"/>
            <a:ext cx="504720" cy="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72 Conector recto"/>
          <p:cNvSpPr/>
          <p:nvPr/>
        </p:nvSpPr>
        <p:spPr>
          <a:xfrm>
            <a:off x="1835280" y="981000"/>
            <a:ext cx="0" cy="244800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74 Conector recto"/>
          <p:cNvSpPr/>
          <p:nvPr/>
        </p:nvSpPr>
        <p:spPr>
          <a:xfrm>
            <a:off x="7524720" y="907920"/>
            <a:ext cx="0" cy="295272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76 Conector recto"/>
          <p:cNvSpPr/>
          <p:nvPr/>
        </p:nvSpPr>
        <p:spPr>
          <a:xfrm>
            <a:off x="5364000" y="907920"/>
            <a:ext cx="2160720" cy="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78 Conector recto"/>
          <p:cNvSpPr/>
          <p:nvPr/>
        </p:nvSpPr>
        <p:spPr>
          <a:xfrm>
            <a:off x="1835280" y="907920"/>
            <a:ext cx="2016000" cy="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19280" y="551664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épa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84 Conector recto"/>
          <p:cNvSpPr/>
          <p:nvPr/>
        </p:nvSpPr>
        <p:spPr>
          <a:xfrm flipH="1">
            <a:off x="2411280" y="4436280"/>
            <a:ext cx="1224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124000" y="177336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éta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88 Conector recto"/>
          <p:cNvSpPr/>
          <p:nvPr/>
        </p:nvSpPr>
        <p:spPr>
          <a:xfrm>
            <a:off x="2411280" y="2133720"/>
            <a:ext cx="43200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89 CuadroTexto"/>
          <p:cNvSpPr/>
          <p:nvPr/>
        </p:nvSpPr>
        <p:spPr>
          <a:xfrm>
            <a:off x="324000" y="4221000"/>
            <a:ext cx="1511280" cy="642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ineceo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pisti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90 Conector recto"/>
          <p:cNvSpPr/>
          <p:nvPr/>
        </p:nvSpPr>
        <p:spPr>
          <a:xfrm flipV="1">
            <a:off x="1835280" y="3357720"/>
            <a:ext cx="2665440" cy="118728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94 CuadroTexto"/>
          <p:cNvSpPr/>
          <p:nvPr/>
        </p:nvSpPr>
        <p:spPr>
          <a:xfrm>
            <a:off x="7164360" y="4724280"/>
            <a:ext cx="1511280" cy="3682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droc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95 Conector recto"/>
          <p:cNvSpPr/>
          <p:nvPr/>
        </p:nvSpPr>
        <p:spPr>
          <a:xfrm>
            <a:off x="5867280" y="3141720"/>
            <a:ext cx="2052720" cy="1582560"/>
          </a:xfrm>
          <a:prstGeom prst="line">
            <a:avLst/>
          </a:prstGeom>
          <a:ln w="2844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156360" y="198900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amb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101 Conector recto"/>
          <p:cNvSpPr/>
          <p:nvPr/>
        </p:nvSpPr>
        <p:spPr>
          <a:xfrm flipV="1">
            <a:off x="6084720" y="2349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104 CuadroTexto"/>
          <p:cNvSpPr/>
          <p:nvPr/>
        </p:nvSpPr>
        <p:spPr>
          <a:xfrm>
            <a:off x="6227640" y="5732640"/>
            <a:ext cx="266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incha sobre androceo y gineceo para saber má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2776680" cy="39621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partes de una flor típ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826920" y="1341360"/>
            <a:ext cx="806472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á formado por los estambres. Cada estambre tie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Un filamento: cuya función es elevar la ante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Una antera: en cuyo interior se forman los granos de polen. Dichos granos contienen los gametos masculi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l androc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560680" y="393228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t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292560" y="4181400"/>
            <a:ext cx="87768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124680" y="445932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anos de pól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730840" y="586116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lam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 flipH="1" flipV="1">
            <a:off x="4797000" y="5705640"/>
            <a:ext cx="981000" cy="35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390600" y="53402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2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23 Conector recto"/>
          <p:cNvSpPr/>
          <p:nvPr/>
        </p:nvSpPr>
        <p:spPr>
          <a:xfrm>
            <a:off x="5292000" y="3716280"/>
            <a:ext cx="831960" cy="10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25 Conector recto"/>
          <p:cNvSpPr/>
          <p:nvPr/>
        </p:nvSpPr>
        <p:spPr>
          <a:xfrm flipH="1">
            <a:off x="4355640" y="4752360"/>
            <a:ext cx="1768680" cy="9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1886040" cy="40496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partes de una flor típ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34920" y="1274760"/>
            <a:ext cx="806472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órgano reproductor femenino y tiene forma de bot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a de tres par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Ovario: la parte ancha. En su interior están los gametos femeni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Estilo: es la parte alarg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Estigma: es el extremo sup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l ginec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182760" y="474336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v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3952800" y="4933800"/>
            <a:ext cx="1197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783480" y="440532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6389640" y="580716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met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meni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 flipH="1" flipV="1">
            <a:off x="5455800" y="5751000"/>
            <a:ext cx="98100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5"/>
          <p:cNvSpPr/>
          <p:nvPr/>
        </p:nvSpPr>
        <p:spPr>
          <a:xfrm flipH="1" flipV="1">
            <a:off x="5967360" y="4251240"/>
            <a:ext cx="8524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7142040" y="309096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ig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 flipH="1" flipV="1">
            <a:off x="6327720" y="2935080"/>
            <a:ext cx="852480" cy="33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390600" y="53402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32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1:23Z</dcterms:modified>
  <cp:revision>51</cp:revision>
  <dc:subject/>
  <dc:title>Diapositiva 1</dc:title>
</cp:coreProperties>
</file>